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B4B7E-7551-4A3D-9FAB-6C5D4D17E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41CF-4308-455F-AE6D-87EE14257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575A5-950B-4CE1-B8A2-044D47478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2F8CF-E259-42E8-92A1-B6B4D9AEE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98EE8-205F-40FC-8973-4A99475F1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BD1E0-542B-41D0-8AF1-C32763D5B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9090D-D6F1-4943-9029-DE472E614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532A7-E24E-4506-8FB4-E994BCAE1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3EA5B-90A4-4A87-8E55-6122334CA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93CF0-CF07-450F-B185-12349D375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D7FF9-9937-42F8-81F3-0532FBA35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423EC-48AA-4E11-9F65-B4B714A3A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5C2B-F8EE-474A-A1D1-5EBA668B0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E774A-6551-4B59-8A95-890144B77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F55C2-986C-4412-BF30-F5360D1F6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379527-3ED6-47E4-B040-BDC7ABED7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404EB-E0CA-4285-9DE9-A5F60C442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3163-3412-47E1-817C-CEB5BA76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7D9D4-71AF-462C-ADED-B20C6588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33C0E-C8C0-4682-8CA6-24C190DF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58B74-FE23-4DDB-897A-0093BD06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88F3-D49B-4CE4-973F-B17A5D4C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E299-B0BA-4B1F-A770-716E5074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5F6F-33D7-42E2-92C7-FAA55269B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BA34-57DF-4630-9097-62119DF5E6D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523880" cy="1523880"/>
          </a:xfrm>
          <a:prstGeom prst="rect">
            <a:avLst/>
          </a:prstGeom>
          <a:ln w="0">
            <a:noFill/>
          </a:ln>
        </p:spPr>
      </p:pic>
      <p:pic>
        <p:nvPicPr>
          <p:cNvPr id="6" name="" descr=""/>
          <p:cNvPicPr/>
          <p:nvPr/>
        </p:nvPicPr>
        <p:blipFill>
          <a:blip r:embed="rId3"/>
          <a:stretch/>
        </p:blipFill>
        <p:spPr>
          <a:xfrm>
            <a:off x="0" y="5410080"/>
            <a:ext cx="1447920" cy="1447920"/>
          </a:xfrm>
          <a:prstGeom prst="rect">
            <a:avLst/>
          </a:prstGeom>
          <a:ln w="0">
            <a:noFill/>
          </a:ln>
        </p:spPr>
      </p:pic>
      <p:pic>
        <p:nvPicPr>
          <p:cNvPr id="7" name="" descr=""/>
          <p:cNvPicPr/>
          <p:nvPr/>
        </p:nvPicPr>
        <p:blipFill>
          <a:blip r:embed="rId4"/>
          <a:stretch/>
        </p:blipFill>
        <p:spPr>
          <a:xfrm>
            <a:off x="7772400" y="0"/>
            <a:ext cx="1371600" cy="1371600"/>
          </a:xfrm>
          <a:prstGeom prst="rect">
            <a:avLst/>
          </a:prstGeom>
          <a:ln w="0">
            <a:noFill/>
          </a:ln>
        </p:spPr>
      </p:pic>
      <p:pic>
        <p:nvPicPr>
          <p:cNvPr id="8" name="" descr=""/>
          <p:cNvPicPr/>
          <p:nvPr/>
        </p:nvPicPr>
        <p:blipFill>
          <a:blip r:embed="rId5"/>
          <a:stretch/>
        </p:blipFill>
        <p:spPr>
          <a:xfrm>
            <a:off x="7772400" y="548640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162840" y="0"/>
            <a:ext cx="2981160" cy="2981160"/>
          </a:xfrm>
          <a:prstGeom prst="rect">
            <a:avLst/>
          </a:prstGeom>
          <a:ln w="0">
            <a:noFill/>
          </a:ln>
        </p:spPr>
      </p:pic>
      <p:pic>
        <p:nvPicPr>
          <p:cNvPr id="46" name="" descr=""/>
          <p:cNvPicPr/>
          <p:nvPr/>
        </p:nvPicPr>
        <p:blipFill>
          <a:blip r:embed="rId3"/>
          <a:stretch/>
        </p:blipFill>
        <p:spPr>
          <a:xfrm>
            <a:off x="0" y="0"/>
            <a:ext cx="2981160" cy="2981160"/>
          </a:xfrm>
          <a:prstGeom prst="rect">
            <a:avLst/>
          </a:prstGeom>
          <a:ln w="0">
            <a:noFill/>
          </a:ln>
        </p:spPr>
      </p:pic>
      <p:sp>
        <p:nvSpPr>
          <p:cNvPr id="47" name="PlaceHolder 1"/>
          <p:cNvSpPr>
            <a:spLocks noGrp="1"/>
          </p:cNvSpPr>
          <p:nvPr>
            <p:ph type="title"/>
          </p:nvPr>
        </p:nvSpPr>
        <p:spPr>
          <a:xfrm>
            <a:off x="2362320" y="-360"/>
            <a:ext cx="4572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D94B-7ADD-4D2B-83FE-0D802DAD180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4"/>
          <a:stretch/>
        </p:blipFill>
        <p:spPr>
          <a:xfrm>
            <a:off x="0" y="3876840"/>
            <a:ext cx="2981160" cy="2981160"/>
          </a:xfrm>
          <a:prstGeom prst="rect">
            <a:avLst/>
          </a:prstGeom>
          <a:ln w="0">
            <a:noFill/>
          </a:ln>
        </p:spPr>
      </p:pic>
      <p:pic>
        <p:nvPicPr>
          <p:cNvPr id="52" name="" descr=""/>
          <p:cNvPicPr/>
          <p:nvPr/>
        </p:nvPicPr>
        <p:blipFill>
          <a:blip r:embed="rId5"/>
          <a:stretch/>
        </p:blipFill>
        <p:spPr>
          <a:xfrm>
            <a:off x="6162840" y="3876840"/>
            <a:ext cx="2981160" cy="2981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371600" algn="ctr">
              <a:spcBef>
                <a:spcPts val="499"/>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1828800" algn="ctr">
              <a:spcBef>
                <a:spcPts val="499"/>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837720"/>
            <a:ext cx="45720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The effects of Recess on student’s behavior in third grade</a:t>
            </a:r>
            <a:endParaRPr b="0" lang="en-US" sz="3600" spc="-1" strike="noStrike">
              <a:solidFill>
                <a:srgbClr val="000066"/>
              </a:solidFill>
              <a:latin typeface="Times New Roman"/>
            </a:endParaRPr>
          </a:p>
        </p:txBody>
      </p:sp>
      <p:sp>
        <p:nvSpPr>
          <p:cNvPr id="91" name="PlaceHolder 2"/>
          <p:cNvSpPr>
            <a:spLocks noGrp="1"/>
          </p:cNvSpPr>
          <p:nvPr>
            <p:ph type="subTitle"/>
          </p:nvPr>
        </p:nvSpPr>
        <p:spPr>
          <a:xfrm>
            <a:off x="2895480" y="4800240"/>
            <a:ext cx="3353040" cy="16002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etra Peters</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D 702.22</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all 2009</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tatement of Hypothesis</a:t>
            </a:r>
            <a:endParaRPr b="0" lang="en-US" sz="4400" spc="-1" strike="noStrike">
              <a:solidFill>
                <a:srgbClr val="0000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oviding 25 students at P.S Y with an adequate amount of recess time will have a positive effect on student’s behavior in the classroom. </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 End</a:t>
            </a:r>
            <a:endParaRPr b="0" lang="en-US" sz="4400" spc="-1" strike="noStrike">
              <a:solidFill>
                <a:srgbClr val="0000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Those who think they have no time for bodily exercise will sooner or later have to find time for illness.  ~Edward Stanley</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able of Contents</a:t>
            </a:r>
            <a:endParaRPr b="0" lang="en-US" sz="4400" spc="-1" strike="noStrike">
              <a:solidFill>
                <a:srgbClr val="0000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atement of the Problem</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Review of Related Literatur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atement of the Hypothesis</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tatement of the Problem</a:t>
            </a:r>
            <a:endParaRPr b="0" lang="en-US" sz="4400" spc="-1" strike="noStrike">
              <a:solidFill>
                <a:srgbClr val="0000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Recess times are being shortened or eliminated altogether. Students do not have the opportunity to release their excess energy and in turn become a distraction in class and this affects their behavior.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heorists</a:t>
            </a:r>
            <a:endParaRPr b="0" lang="en-US" sz="4400" spc="-1" strike="noStrike">
              <a:solidFill>
                <a:srgbClr val="000066"/>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1" lang="en-US" sz="3600" spc="-1" strike="noStrike">
                <a:solidFill>
                  <a:srgbClr val="000066"/>
                </a:solidFill>
                <a:latin typeface="Times New Roman"/>
              </a:rPr>
              <a:t>L. Vygotsky</a:t>
            </a:r>
            <a:r>
              <a:rPr b="0" lang="en-US" sz="3200" spc="-1" strike="noStrike">
                <a:solidFill>
                  <a:srgbClr val="000066"/>
                </a:solidFill>
                <a:latin typeface="Times New Roman"/>
              </a:rPr>
              <a:t>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ull cognitive development requires social interactio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0" lang="en-US" sz="3200" spc="-1" strike="noStrike">
                <a:solidFill>
                  <a:srgbClr val="000066"/>
                </a:solidFill>
                <a:latin typeface="Times New Roman"/>
              </a:rPr>
              <a:t>	</a:t>
            </a:r>
            <a:r>
              <a:rPr b="1" lang="en-US" sz="3600" spc="-1" strike="noStrike">
                <a:solidFill>
                  <a:srgbClr val="000066"/>
                </a:solidFill>
                <a:latin typeface="Times New Roman"/>
              </a:rPr>
              <a:t>J. Lave </a:t>
            </a:r>
            <a:endParaRPr b="0" lang="en-US" sz="36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earning requires social interaction and collaboration.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Physical education alone is not enough, students need more physical activity. Two gym periods a week does not cut it.  Kahan, David (2008)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importance of play time for students in regard to the development of their emotional, social, cognitive and physical development.  Chmelynski, Carol (2006) </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6% of our students are overweight due to poor eating habits and lack of physical activity. Parsad, B., and Lewis, L (2006)</a:t>
            </a:r>
            <a:endParaRPr b="0"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chools ending their recess time and chalking it up to offering students a gym period. Schachter, Ron, (2005) </a:t>
            </a:r>
            <a:endParaRPr b="0"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upervised recess vs. unsupervised recess Lewis, Timothy J., Colvin, Geoff &amp; Sugai, George (2000) </a:t>
            </a:r>
            <a:endParaRPr b="0" lang="en-US" sz="3200" spc="-1" strike="noStrike">
              <a:solidFill>
                <a:srgbClr val="0000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are more attentive and participate more when recess is given and is outdoors. Holmes, Robyn M., Pellegrini, Anthony D. &amp; Schmidt, Susan L (2006) </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relationships are formed during recess time. Leff, Stephen S &amp; Lakin, Rebecca (2005)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who have recess are given unstructured free time and choose to interact with their peers more than with adults. They are more sophisticated on specific social cognitive measures, are more popular with their peers and are overall higher achievers. Pellegrini, Anthony D &amp; Bohn, Catherine M. (2005) </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view of Literature</a:t>
            </a:r>
            <a:endParaRPr b="0" lang="en-US" sz="4400" spc="-1" strike="noStrike">
              <a:solidFill>
                <a:srgbClr val="000066"/>
              </a:solidFill>
              <a:latin typeface="Times New Roman"/>
            </a:endParaRPr>
          </a:p>
        </p:txBody>
      </p:sp>
      <p:sp>
        <p:nvSpPr>
          <p:cNvPr id="107"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tudents not usually given recess time are more fidgety and have a shorter attention span than their counterparts who are given recess periods. Jarrett, Olga S., Maxwell, Darlene M., Dickerson, Carrie., Hoge, Pamela, Davies, Gwen &amp; Yetley, Amy (1998) </a:t>
            </a:r>
            <a:endParaRPr b="0" lang="en-US" sz="3200" spc="-1" strike="noStrike">
              <a:solidFill>
                <a:srgbClr val="000066"/>
              </a:solidFill>
              <a:latin typeface="Times New Roman"/>
            </a:endParaRPr>
          </a:p>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effects of adequate recess time &amp; indoors vs. outdoors Pellegrini, A.D, Davis Huberty, Patti &amp; Jones, Ithel (1995)</a:t>
            </a:r>
            <a:endParaRPr b="0" lang="en-US" sz="3200" spc="-1" strike="noStrike">
              <a:solidFill>
                <a:srgbClr val="000066"/>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15:28Z</dcterms:created>
  <dc:creator>NYCDOE</dc:creator>
  <dc:description/>
  <dc:language>en-US</dc:language>
  <cp:lastModifiedBy>NYCDOE</cp:lastModifiedBy>
  <dcterms:modified xsi:type="dcterms:W3CDTF">2009-10-15T20:38:52Z</dcterms:modified>
  <cp:revision>6</cp:revision>
  <dc:subject/>
  <dc:title>Slide 1</dc:title>
</cp:coreProperties>
</file>